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82990"/>
        <c:axId val="76948225"/>
      </c:barChart>
      <c:catAx>
        <c:axId val="52182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48225"/>
        <c:crosses val="autoZero"/>
        <c:auto val="1"/>
        <c:lblAlgn val="ctr"/>
        <c:lblOffset val="100"/>
        <c:noMultiLvlLbl val="0"/>
      </c:catAx>
      <c:valAx>
        <c:axId val="769482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82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268-2D23-44AC-89F1-8B08B941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B8A-FE75-4338-A3D4-BD283DA2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DB00-0470-4BE5-9C2A-34C495AF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7BD-C806-4EAF-82DC-D64669CF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844-996E-4E89-B425-87A10FD2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345-002E-40C8-B592-AE0BD117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9B5-6568-4196-81EB-2C399DC2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1B4-CE53-4FE7-BFBA-F1786E95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664-3056-42C9-98F7-2958D802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FBC-734A-4BC4-83D9-F720760D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3B1D-CED1-4ABA-94AD-25801AC8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A8D-F023-46C7-BDC5-401708C3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55869-BED6-4191-836B-8F59544CCA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