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67829"/>
        <c:axId val="4968570"/>
      </c:barChart>
      <c:catAx>
        <c:axId val="19467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8570"/>
        <c:crosses val="autoZero"/>
        <c:auto val="1"/>
        <c:lblAlgn val="ctr"/>
        <c:lblOffset val="100"/>
        <c:noMultiLvlLbl val="0"/>
      </c:catAx>
      <c:valAx>
        <c:axId val="4968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67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BA8-E347-4AB9-B6C7-D7B79939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C8C-B897-4528-920D-EC165541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5FD-231A-43C5-9267-260F32D5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06B-49B7-4DC4-A795-A05CFDDF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190-D18F-4193-B818-956C5944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E20-B9B0-43DA-B15B-FE65A238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007-20ED-4550-938B-E63D54A0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634-FEAD-4217-AC9B-7F15A7A5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75C-0A1E-44D1-854B-3B72CF65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2DE-98F5-4DAC-BE9F-7774E61B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9A8-BA49-4F2E-BF36-84575810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14F-7F53-4983-AC40-7CC1A608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EB761-B1FC-473B-B269-C71AB19127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