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69857"/>
        <c:axId val="43274254"/>
      </c:barChart>
      <c:catAx>
        <c:axId val="913698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74254"/>
        <c:crosses val="autoZero"/>
        <c:auto val="1"/>
        <c:lblAlgn val="ctr"/>
        <c:lblOffset val="100"/>
        <c:noMultiLvlLbl val="0"/>
      </c:catAx>
      <c:valAx>
        <c:axId val="43274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698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7E8-551E-4328-BA20-9D316320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970-0DFA-4A29-9AF2-54703739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0FCC-EF87-4556-9AD8-B44FA6C8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E82C-8CAA-4FA4-B9C2-36544D05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CCA-FBC1-465C-A57D-643AAEB2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26E-8A97-48F4-A9C6-0E13E7C6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3059-21CE-468C-9ACB-9EF9F355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9B3-AFEC-41DA-88DA-8A8D7097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47A-D1DE-46AF-BAB2-A795F9A2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244D-F4C3-4E64-B364-ADCC6F15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60D-8165-4C96-BE1F-2AC7CC31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FF47-B768-4430-B885-5CE1A088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CCD5B-17D2-4D18-9D4B-430D3396CF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