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10602"/>
        <c:axId val="53797489"/>
      </c:barChart>
      <c:catAx>
        <c:axId val="61010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97489"/>
        <c:crosses val="autoZero"/>
        <c:auto val="1"/>
        <c:lblAlgn val="ctr"/>
        <c:lblOffset val="100"/>
        <c:noMultiLvlLbl val="0"/>
      </c:catAx>
      <c:valAx>
        <c:axId val="53797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10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3A1-2C7D-46EC-B369-21D0175B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0CF-2D3A-4816-BFB0-757E23D3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9C9-6F55-4CB1-925D-51FA41BE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9AF-1320-48FC-B356-0AB2D8D8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4A0-5162-49E0-A833-4D7966E8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B5F-38DB-4BF6-98CE-145645B0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83E-DA42-4217-BA8E-33D8798D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857-6791-4585-AF9D-AEADA247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CA4-0A9A-4DCA-B8BF-11F4928C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630-5DF5-4EC8-ADBE-0E2AA63A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724-DB56-4ED4-A7F3-26BB1AB9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A67-3428-4A15-A940-99F112DD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52205-6FBC-4DE1-B260-BCAAC845AD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