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44359"/>
        <c:axId val="97735352"/>
      </c:barChart>
      <c:catAx>
        <c:axId val="28144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35352"/>
        <c:crosses val="autoZero"/>
        <c:auto val="1"/>
        <c:lblAlgn val="ctr"/>
        <c:lblOffset val="100"/>
        <c:noMultiLvlLbl val="0"/>
      </c:catAx>
      <c:valAx>
        <c:axId val="97735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44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7CE-0747-467D-AF5B-50098FF8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CFE-E148-480D-BACB-72E56BC7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6E0-0228-4E9B-B417-38972286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BAD-CCC1-48FF-B49A-3D2D3179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B4E-0073-49A6-AAFA-64B16AB5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E8B-D22A-4E1A-AF9A-8C706D9A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77D-1832-4ACA-B3B0-EF0D264B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038-1E20-4387-881C-31E2797F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676-3023-41BB-97D3-73D1B97E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60A-61F7-4D8E-9F56-82F82CA6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4B6-2984-4212-9EBE-48A3DFE3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4EC-F25E-4D57-9266-068A0CA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1F4DA-A9AE-4B60-A7E8-038A018E12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