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85132"/>
        <c:axId val="77516903"/>
      </c:barChart>
      <c:catAx>
        <c:axId val="79485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16903"/>
        <c:crosses val="autoZero"/>
        <c:auto val="1"/>
        <c:lblAlgn val="ctr"/>
        <c:lblOffset val="100"/>
        <c:noMultiLvlLbl val="0"/>
      </c:catAx>
      <c:valAx>
        <c:axId val="77516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85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421-B0E7-41D0-ABCB-0438E325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691-9262-492A-94E0-161E8F9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F89-03F7-402F-A618-F4AECA4C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98F-BE57-4E62-81E7-C615FDC5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D69-2650-4040-AFE6-3704B177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9CE-9719-4724-BBA3-B0623071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687-ABF1-4DA2-9908-9689D93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766-06C7-4214-88E3-6AB6DED3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C65-FFCE-4AEF-BE10-1FA16D0A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7F9-5820-4A62-B7EA-7AE9796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7C7-6299-4AE8-BF49-F7A81A9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818-B40B-45D0-8B55-7DBFAA6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B0614-A13A-49BE-9630-CD3DBC47A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