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9648"/>
        <c:axId val="85384968"/>
      </c:barChart>
      <c:catAx>
        <c:axId val="2069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84968"/>
        <c:crosses val="autoZero"/>
        <c:auto val="1"/>
        <c:lblAlgn val="ctr"/>
        <c:lblOffset val="100"/>
        <c:noMultiLvlLbl val="0"/>
      </c:catAx>
      <c:valAx>
        <c:axId val="85384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9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0F1-262A-419E-B4A0-4F5516BB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C7F-D377-448E-B4F0-5E6B6848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B23-0D7D-47F5-9A78-9AA80067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669-1AE2-415A-AA19-A54F59CE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81A-1B2F-4FA5-965C-63CE5CB9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6B4-564F-455D-B8DF-9D0776A8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5F7-043F-46CF-9D5D-BF874050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EB7-36C6-4702-8C9B-98F50113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A7F-5C27-45B2-B503-11F191B0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C4D-6217-4311-9C5D-895E81E4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FE8-36D2-4ADB-B7EE-330A6D9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758-B245-4CE7-A4B4-D5AEA6C1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350F4-A4A5-4129-8743-9D525C94FB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