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6068"/>
        <c:axId val="82799773"/>
      </c:barChart>
      <c:catAx>
        <c:axId val="5806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9773"/>
        <c:crosses val="autoZero"/>
        <c:auto val="1"/>
        <c:lblAlgn val="ctr"/>
        <c:lblOffset val="100"/>
        <c:noMultiLvlLbl val="0"/>
      </c:catAx>
      <c:valAx>
        <c:axId val="82799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6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532-DE56-437F-BEE8-2DFA9EE2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BC3-5F69-48DA-A961-8296741F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E2A-36C8-4891-8696-6A391361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DD5-CA4C-4409-853B-429AC033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5F8-951B-435C-836A-8112D7B5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2F0-BC42-4BEC-A82C-006FD230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37E-44E4-4706-8B37-3361DE00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59C-C800-47F1-A44A-44364A13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8E1-40CF-4ECD-8887-CBB7BA0C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F9C-06DF-47DA-8AAA-F7A14FA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0C0-277B-4359-9D01-635CB4D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E9D-455C-4498-AF00-85EF4F60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98C30-4CDE-4413-BC45-2BD185491C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