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690378"/>
        <c:axId val="54095952"/>
      </c:barChart>
      <c:catAx>
        <c:axId val="786903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95952"/>
        <c:crosses val="autoZero"/>
        <c:auto val="1"/>
        <c:lblAlgn val="ctr"/>
        <c:lblOffset val="100"/>
        <c:noMultiLvlLbl val="0"/>
      </c:catAx>
      <c:valAx>
        <c:axId val="540959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903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730E-609D-44A9-94C1-3C5F7BD93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EE18-D57D-4249-8659-14A2EA34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F0E2-B6CF-43D8-AB61-10F9C94C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DE8D-8EB4-4565-A513-F648EBCC7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8E44-F29D-4B89-8533-584B6D82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3C4D-B8CB-4E69-9F1C-659EAA08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A056-260C-48BB-914C-B964EA80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6A8D-B640-4C03-83E3-0F20E08D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4604-C529-40F4-8FA8-63191A46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A597-37E2-4156-9618-23C69EAE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2133-CDE6-474F-A8B0-54C38E93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5A87-75FD-453D-91C5-30D9404B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3A2D4-40D7-4B60-9F9D-600FCC63A8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