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35642"/>
        <c:axId val="66991399"/>
      </c:barChart>
      <c:catAx>
        <c:axId val="32035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1399"/>
        <c:crosses val="autoZero"/>
        <c:auto val="1"/>
        <c:lblAlgn val="ctr"/>
        <c:lblOffset val="100"/>
        <c:noMultiLvlLbl val="0"/>
      </c:catAx>
      <c:valAx>
        <c:axId val="66991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5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F5B-2D61-40F8-97F1-D92C568B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A25-5717-4223-9512-5AAD29E5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AE7-583D-4A67-A0FA-A8F982B9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7B5-1BC9-4846-84C6-AB197BBD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09A-586A-4263-9D81-C81C054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FD8-8257-4265-A144-9C69798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662-091E-4CD2-88DA-DB66567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B45-FC7F-4B8A-A8E8-ADE2733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7D3-7023-4482-BDBD-8CBC6D1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8B6-2876-4AC5-896D-13C7E1A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D11-F4D0-45B0-AB20-F8F6402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889-B4B3-454A-BA5D-51009E9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DB60-49C4-477D-A120-B0FBB75473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