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93167"/>
        <c:axId val="67978083"/>
      </c:barChart>
      <c:catAx>
        <c:axId val="12993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78083"/>
        <c:crosses val="autoZero"/>
        <c:auto val="1"/>
        <c:lblAlgn val="ctr"/>
        <c:lblOffset val="100"/>
        <c:noMultiLvlLbl val="0"/>
      </c:catAx>
      <c:valAx>
        <c:axId val="67978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93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D28-9315-436F-BCFE-2E609400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70A8-78BE-488B-A584-39B9A977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B45-8C1A-405D-AC98-BB3CB91F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5D27-7299-4FD6-A277-C4F2DA81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222-99F8-4E20-B323-909B2599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303-A938-46D5-9316-69F56959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C961-95B2-431F-AE20-A52292C5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D151-6DAA-4294-906D-72EA5B2A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F655-96A8-4610-9647-9586C19F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679B-59D0-4DB6-B17D-14753DDD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AE1-165B-42F1-9522-6CEA05C4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A30-1E01-4148-A936-F4B04429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09172-25BE-4C00-B872-1802EB432A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