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5591"/>
        <c:axId val="38527666"/>
      </c:barChart>
      <c:catAx>
        <c:axId val="6815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27666"/>
        <c:crosses val="autoZero"/>
        <c:auto val="1"/>
        <c:lblAlgn val="ctr"/>
        <c:lblOffset val="100"/>
        <c:noMultiLvlLbl val="0"/>
      </c:catAx>
      <c:valAx>
        <c:axId val="38527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149-0C2B-493C-9ED8-3DA53FAA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A46-1171-475B-8726-D221E2F4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3CD-6942-43EF-BAD9-797956AA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452-7065-4E29-9D26-5A15031D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CCF-A403-4849-A945-C75CCE9F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616-A6A2-4F47-A6B0-DF173795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CEE-0AFC-4F81-AA6E-D5BA634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1E7-3429-4457-8E45-8D6CCE51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C78-40FB-48C2-95CC-22E965CD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E3F-2ED2-4505-866C-6A67F1F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B14-17D4-4936-BEC7-438841F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D1D-C4B4-46BC-AAAB-0A74DC67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BD58C-5877-4408-AB9D-97DF4AC7D8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