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0258"/>
        <c:axId val="60991723"/>
      </c:barChart>
      <c:catAx>
        <c:axId val="420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91723"/>
        <c:crosses val="autoZero"/>
        <c:auto val="1"/>
        <c:lblAlgn val="ctr"/>
        <c:lblOffset val="100"/>
        <c:noMultiLvlLbl val="0"/>
      </c:catAx>
      <c:valAx>
        <c:axId val="609917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0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CAEC-65B8-4E3A-A5F7-14CF804AA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B958-F029-4A8B-B9E3-4FE6E699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855-016C-4732-A828-2489699E5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861-A65A-4727-B373-3BC44A140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EA6F-EF85-47C8-8D15-68D011FA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F134-67AC-4D7F-BDCD-8437AEB0C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B9CA-5EBF-487D-A8BB-D78D31E6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07E8-F431-4CCB-A170-200113A5E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96D1-1E8B-4335-9B31-F5D8A8FD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D062-4C18-473A-B2E3-05E0F434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8845-297D-4BFC-BA00-DCF3FEFD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8A26-AC93-474A-8AF2-0C33E865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00A59-C873-40F1-A301-00B1447BF3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