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75434"/>
        <c:axId val="76763530"/>
      </c:barChart>
      <c:catAx>
        <c:axId val="92575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63530"/>
        <c:crosses val="autoZero"/>
        <c:auto val="1"/>
        <c:lblAlgn val="ctr"/>
        <c:lblOffset val="100"/>
        <c:noMultiLvlLbl val="0"/>
      </c:catAx>
      <c:valAx>
        <c:axId val="76763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75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625-82E6-4485-ADF4-45DE7197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0DC-52A3-4187-A108-8C26A428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8EB-20BB-4A16-922A-F6D0C0B3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CA9-5789-4571-A1F1-07256CF2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59E-D2A4-459C-86BC-D1302D40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6C2-1E39-4BCF-A563-5A79D115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6C5-E89A-4FFD-8928-6E960FA9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44B-B111-4BC2-9E85-3D78E60B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10D-00ED-4622-B3D6-94F4AA92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794-7648-4642-8C2A-86478F2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38A-FDE6-4F20-8F13-A1D85D66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D66-CA62-4358-A589-EEF6E008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88027-FCE3-47E6-AB28-8B9923D29F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