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04193"/>
        <c:axId val="57074725"/>
      </c:barChart>
      <c:catAx>
        <c:axId val="80104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4725"/>
        <c:crosses val="autoZero"/>
        <c:auto val="1"/>
        <c:lblAlgn val="ctr"/>
        <c:lblOffset val="100"/>
        <c:noMultiLvlLbl val="0"/>
      </c:catAx>
      <c:valAx>
        <c:axId val="57074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4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C44-5D54-4139-8BE5-BB08763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DDA-8798-4778-BAFD-A3294A6D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069-9361-43E3-9390-F6A10FB3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47F-0732-4A19-BFF6-98906F9F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BE6-C4FA-4B0A-BD41-6D0D1A5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F83-15DA-4410-AB8C-1E660E9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000-0D82-4016-9E48-6BCB059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732-BAF9-4FAC-976B-82C2EDF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6AB-3659-47D0-98D5-9294B148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FA2-7D15-4372-A02E-2E03056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260-4E1E-438A-BEDC-40C9242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51-5BD7-47BC-8A42-3B84F75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5BCD-7C46-4DA5-B65A-92473392B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