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41787"/>
        <c:axId val="18876787"/>
      </c:barChart>
      <c:catAx>
        <c:axId val="64041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76787"/>
        <c:crosses val="autoZero"/>
        <c:auto val="1"/>
        <c:lblAlgn val="ctr"/>
        <c:lblOffset val="100"/>
        <c:noMultiLvlLbl val="0"/>
      </c:catAx>
      <c:valAx>
        <c:axId val="18876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41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06D-A385-47CB-9395-A3A49F14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100-CB5C-475C-A5D0-881CFF17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481-78D8-4C00-8428-5606A0B5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105-0D0B-42ED-9889-B3F7E068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1AD-ABDA-435C-8A14-A60BC8E9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A55-D36D-4ADC-80A8-00EF5051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BE6-AB04-4D0D-A9F5-2C34D238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78A-DE58-419F-A08A-AB99374A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8D3-0C73-46E8-B134-FADBCAD7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ACC-089D-44DC-B8C9-324C683B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C03-3F3D-4A5E-B5C3-E6D4FBDA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9B0-4E00-445C-B246-C0CFDEDC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FCC97-B74C-4F7C-8BA0-1AEDC0218B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