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65694"/>
        <c:axId val="19640487"/>
      </c:barChart>
      <c:catAx>
        <c:axId val="63665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40487"/>
        <c:crosses val="autoZero"/>
        <c:auto val="1"/>
        <c:lblAlgn val="ctr"/>
        <c:lblOffset val="100"/>
        <c:noMultiLvlLbl val="0"/>
      </c:catAx>
      <c:valAx>
        <c:axId val="19640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5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70F-9004-4A72-A51D-07FECC6E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B9D-CA15-45E5-B5DF-EABD669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B6D-4B0F-4E0A-88F5-85500022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423-6049-4443-B6F7-89092CFC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FF0-81CC-4508-84C8-4516B80B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610-3DB5-4ABD-B53D-10CE678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A79-5C34-4CAE-B3DE-CD1BBBC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5AB-D8DA-4A60-83B0-47D7CD5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ED2-C686-4DE9-9F5B-2197D4C6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E10-128D-4AC1-8674-8B5A1F1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A4F-88FE-4449-A490-60DD80A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B61-95EE-458E-A128-BAAEF7D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5B952-80C7-4E40-BE6E-DD003A073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