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37263"/>
        <c:axId val="24183517"/>
      </c:barChart>
      <c:catAx>
        <c:axId val="263372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83517"/>
        <c:crosses val="autoZero"/>
        <c:auto val="1"/>
        <c:lblAlgn val="ctr"/>
        <c:lblOffset val="100"/>
        <c:noMultiLvlLbl val="0"/>
      </c:catAx>
      <c:valAx>
        <c:axId val="24183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37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3CDF-E5F9-4E22-9F18-69A9448E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403-6EC4-4B82-8B7F-5637DB6F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EA47-6530-42A7-B826-7CA994D1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913-A9C4-4048-9ED0-8B86F095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739-F987-43B7-A8E2-0DA0F1F5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337-42F2-4E9B-9A8A-FEC16DDC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8858-F731-4BE7-B0CC-C353A64D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7FF7-FA98-4766-8B9C-C132DCCC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2CD-EFC2-4F53-97C4-8EB322D0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D788-B50F-4440-8CE6-EE4B383C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8F0-B06D-4A98-93BA-CF5F3C07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37E-3D87-4070-A26A-DE95565B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83F1C-9368-4311-BFB1-77B3BEC96C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