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0530"/>
        <c:axId val="6304205"/>
      </c:barChart>
      <c:catAx>
        <c:axId val="8000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4205"/>
        <c:crosses val="autoZero"/>
        <c:auto val="1"/>
        <c:lblAlgn val="ctr"/>
        <c:lblOffset val="100"/>
        <c:noMultiLvlLbl val="0"/>
      </c:catAx>
      <c:valAx>
        <c:axId val="63042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0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685-41D0-445C-B699-D28895137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CBE-0092-4AE0-B12B-B0E13923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B7B-0E12-49B6-91A0-740FDCB9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FC8-A440-4F3E-AA6C-CB52AFCCC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6EA-A308-488F-A621-20C9297C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E494-43B5-44B0-88AE-FD1ACD69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C94-5A9A-4310-B2C7-054D01D0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0108-4FE9-417B-8603-C821818B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BBA-D6F9-4494-90A2-239940A9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184-D890-4CFD-AB9F-4E60A150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5803-4EF9-4519-810F-731890F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3FE-36A3-440E-AE98-FC5046A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61A909-B599-42A2-9EAA-099CD0D9CD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