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55860"/>
        <c:axId val="3406418"/>
      </c:barChart>
      <c:catAx>
        <c:axId val="14755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6418"/>
        <c:crosses val="autoZero"/>
        <c:auto val="1"/>
        <c:lblAlgn val="ctr"/>
        <c:lblOffset val="100"/>
        <c:noMultiLvlLbl val="0"/>
      </c:catAx>
      <c:valAx>
        <c:axId val="3406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55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351-C191-4071-B625-FFAC109F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A7A-1B36-4778-A857-A7F6DEE4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696-7B24-43B9-92A8-046FA4CC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A41-75C8-4834-8B90-8747E738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B31-DB06-40DA-A583-1EB5686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A18-82D0-4F4D-9593-B42538FF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8A3-1A83-4DDC-83E9-DB64891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299-5AAD-48D9-A09D-33B567EB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774-AE47-4047-B65D-C86B6DBB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CC3-DA6E-45CC-AE95-483EC29E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A44-21E7-415A-A54A-4CFBBD6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EEA-90C3-443D-9207-3D8D38A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A5CC6-808A-4A59-AC90-8FBF602B7B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