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52198"/>
        <c:axId val="80430967"/>
      </c:barChart>
      <c:catAx>
        <c:axId val="32052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30967"/>
        <c:crosses val="autoZero"/>
        <c:auto val="1"/>
        <c:lblAlgn val="ctr"/>
        <c:lblOffset val="100"/>
        <c:noMultiLvlLbl val="0"/>
      </c:catAx>
      <c:valAx>
        <c:axId val="804309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52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8EB-1F06-4194-A3AE-A02CF318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505-051D-4DF4-88A1-8B3C39DF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654-1F04-492D-8558-24E81E228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2865-8007-47F0-9684-9C9B2682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A2B-CE80-4D6B-8100-9AF76351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804-B032-4480-ACEA-BEC60856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AA5-C356-4F8B-9837-70FA87D7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6B5F-A1FF-404A-A97C-2B942018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7A95-B541-4E34-BDDC-9101748A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674-56FC-4DA1-8522-5AF839AB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0BC8-FB8D-4C73-8AF7-AB926BF5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FD8-4797-47CB-AD51-F8C73428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4BA0D-E260-41B1-8DFE-02754FD862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