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399"/>
        <c:axId val="52358292"/>
      </c:barChart>
      <c:catAx>
        <c:axId val="9443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58292"/>
        <c:crosses val="autoZero"/>
        <c:auto val="1"/>
        <c:lblAlgn val="ctr"/>
        <c:lblOffset val="100"/>
        <c:noMultiLvlLbl val="0"/>
      </c:catAx>
      <c:valAx>
        <c:axId val="52358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3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5E99-B31D-494A-A47E-66E161E5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897E-A26B-4281-AE5E-7C405789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183E-7FA2-46A3-90C6-9A2D92C0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F22-1A0F-4FAB-B775-D6F9A3C83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F6FC-F759-4A64-B6D4-B589B5CB8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41B5-F3FB-41DD-AEBE-67A6B5825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7637-AB37-47AB-9990-0CBF47A0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A6A0-8E63-4287-B7B0-E1BE614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E4AA-5721-4D1C-BEB8-5FFD15C2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947D-C39B-4CF3-BD38-019C78C7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1C2-91ED-4116-AAB3-91D2110E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B256-3F2B-454E-9AC4-C3C9E6E53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3419EC-F41A-4CE5-86DB-B2C1704C34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