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152260"/>
        <c:axId val="68800517"/>
      </c:barChart>
      <c:catAx>
        <c:axId val="311522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800517"/>
        <c:crosses val="autoZero"/>
        <c:auto val="1"/>
        <c:lblAlgn val="ctr"/>
        <c:lblOffset val="100"/>
        <c:noMultiLvlLbl val="0"/>
      </c:catAx>
      <c:valAx>
        <c:axId val="688005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1522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A8C1-F8AD-4D34-A1F3-AB7CF2A8B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3F3D-B0DC-4088-9950-93692CB3A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E553-5BE1-47D7-9C2C-D898695C7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2482-162D-4761-B8B1-F13714338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1C06-59D7-4A83-877A-2C9BA270D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4B87-E346-4F0D-95DD-CE5173643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C4E7-129F-427B-8292-D64CB5879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395B-462D-4EA5-8707-EAB6F814D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42CC-2DAB-46E2-BCC6-AE3CA3165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5FF1-EC0A-4792-8D73-2E345A9B3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4369-D9DA-42D3-98F6-6F7A5CEDA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4AB7-7452-4B2A-82CB-46AB49D8E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CB938D-1B57-45F7-BECC-273DCE52D3D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