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726049"/>
        <c:axId val="26040196"/>
      </c:barChart>
      <c:catAx>
        <c:axId val="657260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040196"/>
        <c:crosses val="autoZero"/>
        <c:auto val="1"/>
        <c:lblAlgn val="ctr"/>
        <c:lblOffset val="100"/>
        <c:noMultiLvlLbl val="0"/>
      </c:catAx>
      <c:valAx>
        <c:axId val="260401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260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AC4B-A46C-4D76-8DA7-8940C0A45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A466-A507-4425-B5A7-1D792F36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4595-E168-4D65-A7B3-31935683D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CD83-2CBC-46C4-B8C5-0E3296417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39D3-F7C8-4BC5-99B8-8EC4B3CAF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FEAC-0118-4ACB-8825-47323C5D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E253-7CC5-42BA-925C-314BC315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019C-4AAC-496F-95D8-ACE9492D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5620-B675-4FF9-BB2E-460FA0D9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86AB-7CF9-457D-9C1F-384A8B14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6D17-194F-4D8D-A9B4-9B24C62A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F6B9-5CDC-45FE-B8AB-E211B0F0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C7D15-3B24-429C-9E2C-CA9509B5A4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