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56632"/>
        <c:axId val="44789111"/>
      </c:barChart>
      <c:catAx>
        <c:axId val="46656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9111"/>
        <c:crosses val="autoZero"/>
        <c:auto val="1"/>
        <c:lblAlgn val="ctr"/>
        <c:lblOffset val="100"/>
        <c:noMultiLvlLbl val="0"/>
      </c:catAx>
      <c:valAx>
        <c:axId val="44789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56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B0A-8A56-4014-8A88-F362E6A0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A93-9FE5-4B6E-A42A-5BEE703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313-F4EC-4A47-BAB7-E912B8AB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A5E-BDF3-4B02-BB5D-D325BDDB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2B2-561F-4DB3-82B5-A5B222E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F8A-1796-4D5F-BCC2-4409AD15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D20-4602-43CC-B10A-B95D909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4C7-C82A-4494-9D90-34E970B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216-CAE3-4A9D-B80E-E7C50D55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9DB-BD61-41A6-A849-1C7134B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E88-61B7-4C41-8C40-D8B2F3B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D78-C4C9-485E-9731-692B447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3B9B-F40E-4CF7-8190-8F7B764FF6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