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84028"/>
        <c:axId val="74053870"/>
      </c:barChart>
      <c:catAx>
        <c:axId val="903840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53870"/>
        <c:crosses val="autoZero"/>
        <c:auto val="1"/>
        <c:lblAlgn val="ctr"/>
        <c:lblOffset val="100"/>
        <c:noMultiLvlLbl val="0"/>
      </c:catAx>
      <c:valAx>
        <c:axId val="74053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840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CD2-1481-48B3-B7E4-3B27D44D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AE1-7CF8-4611-97E0-64901A0A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3DB-B48C-4233-B174-42731E76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654-4FA4-4D73-8AF3-742DC7B6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F45-49B8-4A56-99F0-B99C4A15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5E5-1E17-443C-94E0-93895204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E04-8B5D-48B7-B33F-F7B919D4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93D-212D-41BE-BEF4-E926719F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486-F1ED-4399-8E3B-8891260D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91F-6E5E-4774-BA72-9E792A5F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0C6-F05A-410F-8C9E-8990C800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0B8-518A-48A0-AD4A-7BD158E1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EBAAA-5D34-4D60-B521-8301EAB9F6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