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79267"/>
        <c:axId val="97058025"/>
      </c:barChart>
      <c:catAx>
        <c:axId val="97779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58025"/>
        <c:crosses val="autoZero"/>
        <c:auto val="1"/>
        <c:lblAlgn val="ctr"/>
        <c:lblOffset val="100"/>
        <c:noMultiLvlLbl val="0"/>
      </c:catAx>
      <c:valAx>
        <c:axId val="97058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79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666-FB0D-47BF-8E80-65CF00A6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302-05C2-48F8-BEFA-1B0A097B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50E-35A3-49F8-BC66-A80D9F41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78B-CB4D-4E19-B037-8A77D619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F81-9B5D-40FC-B4FC-6A591216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101-3315-4F22-AEF3-3972A02A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407-41F3-49D0-8D3F-0A6BBAC5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649-095A-4198-AD4C-0F277DC0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655-8DE2-4156-9E35-038C5F0D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94A-2D03-4311-97F6-54FB88B3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164-BF0D-42E6-ACC8-8D6EAD63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BFD-8B88-48CA-8635-23864853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2C665-706A-4799-B7B6-00E9FAEA5F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