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2915059"/>
        <c:axId val="10523059"/>
      </c:barChart>
      <c:catAx>
        <c:axId val="5291505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523059"/>
        <c:crosses val="autoZero"/>
        <c:auto val="1"/>
        <c:lblAlgn val="ctr"/>
        <c:lblOffset val="100"/>
        <c:noMultiLvlLbl val="0"/>
      </c:catAx>
      <c:valAx>
        <c:axId val="1052305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91505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A8203-EF2B-4F0E-A03C-C6D0CCF52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19FA9-B4C6-4713-8667-2D09DF69C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8D526-3A62-48ED-865F-066C23B93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CC412-6351-47B5-812B-22B08FC1F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901F3-BE00-455C-B2E2-5A1F60455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DEC57-F8A9-4278-83A4-27FD16EB7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5817D-90DF-4029-B498-AC1836802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E0F20-3804-48F2-A7C8-3687CDBA1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955BA-FCEA-46E9-A21F-D4D0C26EE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D0F6D-F8DB-44C1-A6D7-5FD501FF7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A004F-EAF1-4156-923A-FD63A4B0F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FFF84-A4C8-4479-93B9-C5E5EFC41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8D622F-14C7-454B-B1BE-009B12A4C5D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