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0763"/>
        <c:axId val="50650002"/>
      </c:barChart>
      <c:catAx>
        <c:axId val="9850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0002"/>
        <c:crosses val="autoZero"/>
        <c:auto val="1"/>
        <c:lblAlgn val="ctr"/>
        <c:lblOffset val="100"/>
        <c:noMultiLvlLbl val="0"/>
      </c:catAx>
      <c:valAx>
        <c:axId val="50650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BEC-7D31-4F9C-B3E2-B3EDE909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69B-28C5-4BCD-BA0E-A2B624D3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D7C-1C5E-445C-9D97-A0C39580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337-03E8-4081-B715-B9B84603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C2E-8D0F-4A7C-8C86-A536D8F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1B2-291F-4BBD-BB3E-CF5F8E8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462-55C4-4BB2-AA6B-E934454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ACF-C1EB-48F5-97AD-1DBBEF1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7C3-B8D7-452D-8E7F-067C12FA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2CC-6B15-4764-ABB3-BA11FBD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1EA-2E5F-41DD-9283-71D7369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0BA-58DD-4944-B882-B409501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51EF9-E5F7-4957-B90F-4E97E83FC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