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75546"/>
        <c:axId val="31403745"/>
      </c:barChart>
      <c:catAx>
        <c:axId val="90575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03745"/>
        <c:crosses val="autoZero"/>
        <c:auto val="1"/>
        <c:lblAlgn val="ctr"/>
        <c:lblOffset val="100"/>
        <c:noMultiLvlLbl val="0"/>
      </c:catAx>
      <c:valAx>
        <c:axId val="31403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75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262-F3E0-40C1-B066-DF63C332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F93-D691-41CC-BFD9-F41B384F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8C2-E3F6-4A63-A3F8-CCD94428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7E6-1EA5-4143-AE4D-EC56E2EF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091-0F72-4F9F-8D49-D8536340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721-2CF4-4195-A0B6-A758ADD0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B98-05F6-4013-B995-EBE26F99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902-0A3D-47F5-BC21-EC2B2EA8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304-5DC4-41D0-BE73-DB2B0498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E1B-ABE6-4F39-A73E-E4CAF76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94E-BA28-4004-AC5E-8DAED7C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3C2-673A-4D0A-BEBF-2F699985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AB929-7A59-4624-A5C4-57FEB1E63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