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86543"/>
        <c:axId val="71285939"/>
      </c:barChart>
      <c:catAx>
        <c:axId val="58886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85939"/>
        <c:crosses val="autoZero"/>
        <c:auto val="1"/>
        <c:lblAlgn val="ctr"/>
        <c:lblOffset val="100"/>
        <c:noMultiLvlLbl val="0"/>
      </c:catAx>
      <c:valAx>
        <c:axId val="712859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86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A7DE-2027-418F-880D-24F09947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E160-ADB5-4C28-A4BE-56F2BA04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1A39-0934-44E4-B790-FBC42FB5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EB3-DF58-4B08-8B2A-DA9DBE24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E24F-52DC-4103-9290-4D4C8549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BDCA-C688-4116-8887-48855AF7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2AAD-9CE5-4C91-BA82-3EBF8596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FAA6-9527-43FE-9DFB-9EFD4572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3B91-44C6-4024-A193-7B56733D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ACD0-E97A-4CA0-8265-4C130490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F631-916A-4520-A4E6-CD7C4022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BDC-6842-4CE0-B503-BE2C780F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C3EFD-F782-472E-BE19-A5C059E434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