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56253"/>
        <c:axId val="57754266"/>
      </c:barChart>
      <c:catAx>
        <c:axId val="68756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54266"/>
        <c:crosses val="autoZero"/>
        <c:auto val="1"/>
        <c:lblAlgn val="ctr"/>
        <c:lblOffset val="100"/>
        <c:noMultiLvlLbl val="0"/>
      </c:catAx>
      <c:valAx>
        <c:axId val="57754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56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B1A-20D2-49D6-BD3E-E4F143E9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7DA-1B65-42F8-8387-EF940806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0A3-982D-4900-96DB-8045130E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81C-B5AE-4198-BB59-9D9D0B83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DF1-D5CE-4595-9854-4DC23FE8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1CE-D736-4905-B224-DA77FA9B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4CF-F9D6-4A33-9DEB-8ED058BD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9AC-AB53-4C5A-AC33-2BE67F40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D92-71C9-4314-8C24-C689C500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255-B32F-4B84-AED9-783901EB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4AB-919E-4F9D-9A0A-ACC9D18D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562-7309-4870-AB28-3576E583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B9754-491D-4FC8-A2BE-0F78C2B345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