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28265"/>
        <c:axId val="5332377"/>
      </c:barChart>
      <c:catAx>
        <c:axId val="33128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2377"/>
        <c:crosses val="autoZero"/>
        <c:auto val="1"/>
        <c:lblAlgn val="ctr"/>
        <c:lblOffset val="100"/>
        <c:noMultiLvlLbl val="0"/>
      </c:catAx>
      <c:valAx>
        <c:axId val="5332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28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9DF-3D6D-4B79-AE56-78F29076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754-E831-4FCA-B8CE-EE100D36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D55-40AA-4370-A4F8-048BD765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7B6-4953-4F19-BBCA-C6C21012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CD9-6D86-44AE-B4EC-8F804359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C56-6B05-4DF1-AC9C-A88EC8FE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1D2-542D-4BC1-A853-025A5339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2B1-8F25-42F0-B73D-6A27AC02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5A6-5431-47B0-B24D-73045DE7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EC9-8034-44C4-80D3-FC21A036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983-6DA3-4A39-9AC2-A9806AC8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2F6-EBBA-44A4-AAAA-E70A48B0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0D0D6-AA43-4B24-BBD1-9A44677BB6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