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80189"/>
        <c:axId val="7531252"/>
      </c:barChart>
      <c:catAx>
        <c:axId val="57380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1252"/>
        <c:crosses val="autoZero"/>
        <c:auto val="1"/>
        <c:lblAlgn val="ctr"/>
        <c:lblOffset val="100"/>
        <c:noMultiLvlLbl val="0"/>
      </c:catAx>
      <c:valAx>
        <c:axId val="7531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80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91F-044D-4BAC-827D-55AC4224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B59-44C2-4346-A72A-A9D595E1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593-CCD5-4D1E-927D-18D385C6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5FE-6025-406D-A5F4-BB641A99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9708-5B45-4D87-98EB-26D09F6F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B97-19BD-4887-9D8B-DBDA3197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14CC-4C2D-41BD-88DE-DCD480F6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365-F858-47EB-A1F0-16D09A6D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606-EACA-4503-AD43-3F8EBD34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F117-73F6-4B0A-83A8-D853C775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B0E3-19CF-48BE-8A03-C59FD002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28A5-C833-42C4-ADC2-7156197A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0499C-FC39-4E11-B342-7517D8C58A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