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00472"/>
        <c:axId val="1977079"/>
      </c:barChart>
      <c:catAx>
        <c:axId val="77900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7079"/>
        <c:crosses val="autoZero"/>
        <c:auto val="1"/>
        <c:lblAlgn val="ctr"/>
        <c:lblOffset val="100"/>
        <c:noMultiLvlLbl val="0"/>
      </c:catAx>
      <c:valAx>
        <c:axId val="1977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00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200-8431-4454-B613-015D0958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104-1C7B-4BE4-8A29-8FE4BDBC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0F4-0732-40D4-919B-FE6E5756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339-06C8-433D-9560-7AB9DC60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199-DDE2-459B-AB1F-A2EC30C2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27E-422A-4B34-AFB5-81DE3608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A2C-406B-484F-9C76-09A58D70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C5F-A311-42BE-8A4F-E5BCBDFF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FDC-3408-4123-A91C-AD22C1E4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7D9-B130-4F67-9EEF-BBFF4AE2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601-2AAD-45C0-90AD-FB2674F0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750-C7D0-47B0-A4AE-F0123874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5E3A5-5A96-4EEB-9CD4-07B84FDC7B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