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98966"/>
        <c:axId val="82786692"/>
      </c:barChart>
      <c:catAx>
        <c:axId val="17298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86692"/>
        <c:crosses val="autoZero"/>
        <c:auto val="1"/>
        <c:lblAlgn val="ctr"/>
        <c:lblOffset val="100"/>
        <c:noMultiLvlLbl val="0"/>
      </c:catAx>
      <c:valAx>
        <c:axId val="82786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8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119-2A38-4D5D-90A1-F628737E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17E-252C-4B7F-8CD0-64B84A37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3D5-E993-4E4A-9167-A7543C80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C4B-E638-4A0C-A438-E319257F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018-B855-4126-B4F9-8EF34667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9D6-14A8-4293-BF49-6442F5E5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AC9-85DA-4C07-B011-57959A6C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F7B-7629-4A42-9049-0026104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FD8-ABD8-4F8F-9FD8-C8C7C2AC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66F-0E6A-4BF0-BC97-70813B7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697-73FA-40D7-AB41-434916B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A4D-8CA1-4461-8849-550A29B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0E7B-2C21-4CC3-BD41-28CB0D6AE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