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13925"/>
        <c:axId val="1778123"/>
      </c:barChart>
      <c:catAx>
        <c:axId val="18013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8123"/>
        <c:crosses val="autoZero"/>
        <c:auto val="1"/>
        <c:lblAlgn val="ctr"/>
        <c:lblOffset val="100"/>
        <c:noMultiLvlLbl val="0"/>
      </c:catAx>
      <c:valAx>
        <c:axId val="1778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13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7FD-5BE2-4B76-A42C-22F317A9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DCA-AA94-4764-8D5D-4F661892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0DD-6A7A-43F8-8EDE-96C8E8EB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5AE-26D7-4D0B-8B83-BEC659E4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452-E6D5-49BF-B504-7168AD37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3E9-984D-42AA-BFA9-7E94AE8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37C-83A6-4563-A9D0-5D09F9BE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5BD-0B04-46D6-89BC-C43E07F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EC6-9DCC-4C1A-A855-2DE44922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F86-991C-48D8-ADDD-65470774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AFD-C921-480F-9EEA-160067B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CA5-0FA3-47A3-813E-EDCB5D0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9F66E-1C33-41A8-9078-1811062565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