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55308"/>
        <c:axId val="70731530"/>
      </c:barChart>
      <c:catAx>
        <c:axId val="426553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31530"/>
        <c:crosses val="autoZero"/>
        <c:auto val="1"/>
        <c:lblAlgn val="ctr"/>
        <c:lblOffset val="100"/>
        <c:noMultiLvlLbl val="0"/>
      </c:catAx>
      <c:valAx>
        <c:axId val="707315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553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80A4-77C8-4763-8144-CD43AC67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639B-8EBD-4803-B37A-C737B39F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F6F-5AB3-40D2-9370-424B5B01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CD7-8E8E-43FC-9BC2-704D22E5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CD59-F610-432D-8FDB-5A9E320B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482F-2518-4AD7-A16F-67B9AEAD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18F8-B116-4B3B-A7C9-231D83C8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3D40-330E-4F9A-B808-7FE6744F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348C-AB03-4CD7-937B-33FF4B9E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CA3-83DB-472E-8191-C1AD9D60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6DFA-2311-4015-8B93-1A035907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03F0-24CA-4244-9C42-566384F5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E78A4-F80D-4BA9-A440-DE2038176A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