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646065"/>
        <c:axId val="44650540"/>
      </c:barChart>
      <c:catAx>
        <c:axId val="616460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50540"/>
        <c:crosses val="autoZero"/>
        <c:auto val="1"/>
        <c:lblAlgn val="ctr"/>
        <c:lblOffset val="100"/>
        <c:noMultiLvlLbl val="0"/>
      </c:catAx>
      <c:valAx>
        <c:axId val="446505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460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E6A6-3827-40F3-BAA4-96EC2D95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28FA-3ADA-4C6C-808E-61E31D57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4299-645F-4F3A-B46C-03E26AD0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EA60-5428-4493-8A90-B7115AF6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0507-DFA3-41E4-A15F-67E6577B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550F-6BA2-4671-A863-9DD90492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9ED2-BDEA-49A5-A867-DC169FD6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DDF3-181C-4AC8-9700-A17D20D9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6963-2B84-4E74-A81A-5FC5AC34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A809-CBFC-428F-8360-81617A56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7D2E-272A-49B1-A2D8-321AA731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8A27-3BA6-4A27-ACE9-D976A37D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CC32D-285A-4836-B49C-F949E44F51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