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24242"/>
        <c:axId val="89504836"/>
      </c:barChart>
      <c:catAx>
        <c:axId val="18624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04836"/>
        <c:crosses val="autoZero"/>
        <c:auto val="1"/>
        <c:lblAlgn val="ctr"/>
        <c:lblOffset val="100"/>
        <c:noMultiLvlLbl val="0"/>
      </c:catAx>
      <c:valAx>
        <c:axId val="89504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24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63C-45B2-4A92-9660-424F7520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EDC-CDEC-4CC4-BFA7-491D6DAA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4BD-6CE7-4D56-B643-D48D271D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059-CF35-48C1-A90A-28966AE2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02C-B0A6-4597-B27B-3E6D4A18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8E7-DA48-4500-9126-E8829BD6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129-EEEB-4CBF-BBD8-9CEBD7E4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33A-A94B-49F8-91D5-871000F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550-D752-44D7-8C97-E622EB38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ADB-2394-483E-A640-9A1108D4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CEB-70A7-4088-9087-83A490ED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D44-3ECF-45E8-B12B-79C027C6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A0276-DF18-4EB5-A36C-EC8327D448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