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64473"/>
        <c:axId val="45564175"/>
      </c:barChart>
      <c:catAx>
        <c:axId val="61864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64175"/>
        <c:crosses val="autoZero"/>
        <c:auto val="1"/>
        <c:lblAlgn val="ctr"/>
        <c:lblOffset val="100"/>
        <c:noMultiLvlLbl val="0"/>
      </c:catAx>
      <c:valAx>
        <c:axId val="45564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64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B4C-731D-4678-8CF5-9D639960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B40-7BF1-4056-871A-F0D732FC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B36-A29C-47E4-9F06-DE5ECBC3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7D8-6529-43F8-A499-EEBE1388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52AB-4383-49D9-BFF7-EF4A1DE2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A043-86F9-4476-B4CA-394AC869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BD28-4317-4E8B-9D94-35CF48EC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CCF-01DC-41C2-B746-F91056D9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8EF4-7447-402C-B932-E6D0238C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C08-F61A-4E66-89FC-E29F1739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2D5-8129-4615-8E47-42F48819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38CD-0254-4370-98EF-048FA789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34E5C-039F-4505-9ED0-28538D7842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