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5042"/>
        <c:axId val="11066598"/>
      </c:barChart>
      <c:catAx>
        <c:axId val="2785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66598"/>
        <c:crosses val="autoZero"/>
        <c:auto val="1"/>
        <c:lblAlgn val="ctr"/>
        <c:lblOffset val="100"/>
        <c:noMultiLvlLbl val="0"/>
      </c:catAx>
      <c:valAx>
        <c:axId val="11066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5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638-E8D0-41CF-BE0A-ECCBC762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216-60C3-4F8A-B3F3-DF05E90C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DFD-00AD-401F-BD52-C14771B2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497-FA63-43CD-93E1-73FAEFF3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271-FABD-4DED-B842-C83FEAC4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781-9AA1-4790-84C6-07D42C55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9B4-F5B2-480A-B07C-A78A2FA1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EE2-B5ED-4822-8451-AA1A7504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054-FAD2-4BCD-9957-A0F102FA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858-6E31-47B0-B272-B6B1EB7D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7FD-3B22-40BF-B7CB-9226DF22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EC6-81A6-459E-AF84-6B1B340F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72FB4-8EDF-45AD-8720-45AFA92FDE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