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81325"/>
        <c:axId val="15931116"/>
      </c:barChart>
      <c:catAx>
        <c:axId val="59181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31116"/>
        <c:crosses val="autoZero"/>
        <c:auto val="1"/>
        <c:lblAlgn val="ctr"/>
        <c:lblOffset val="100"/>
        <c:noMultiLvlLbl val="0"/>
      </c:catAx>
      <c:valAx>
        <c:axId val="15931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81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9FD-D600-481F-8F6C-35982735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13B-8FFE-4D33-A86E-FCDE6B81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248-6B97-4774-8052-89295A62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5CB-E8D8-40E0-A90E-89813768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706-A3F3-4A2C-A252-12D488DA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04FB-12CC-42E5-B6A4-691F8465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E8C-28C2-456F-9BAE-A499A2FE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86A-3800-4804-ACE7-A2C18A3C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EC8-A86D-42A6-81AF-7D852409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9BE-716E-4EDA-BC19-D2B71DCD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CE7-CCF0-47C1-8099-9E1E0052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9F4-18A0-492A-B24F-2F363371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0E135-99E4-4173-92B5-090D8F7513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