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24362"/>
        <c:axId val="66617258"/>
      </c:barChart>
      <c:catAx>
        <c:axId val="95624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17258"/>
        <c:crosses val="autoZero"/>
        <c:auto val="1"/>
        <c:lblAlgn val="ctr"/>
        <c:lblOffset val="100"/>
        <c:noMultiLvlLbl val="0"/>
      </c:catAx>
      <c:valAx>
        <c:axId val="66617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4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1FB-0036-44B9-AFA2-E692B61F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F26-2BD4-4135-BD56-F33C68C4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307-3E0D-42E0-A5E5-6E62B5F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209-54AF-4ED6-AFB6-4652DBA4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E2E-A785-4895-A2C0-2E885092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36F-D61E-4837-9574-D4FA0848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B86-B0E9-4DCC-9085-242E794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650-09F2-45ED-A08E-7078DF4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337-326F-4850-BA7F-6E435E3E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217-7F27-4A0F-B878-60DD431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94D-A9F4-4874-A536-DD9067F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D20-A48F-4404-B84A-FEC770A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A4554-5C5F-4910-8E56-762BC96776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