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21602"/>
        <c:axId val="99890666"/>
      </c:barChart>
      <c:catAx>
        <c:axId val="696216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90666"/>
        <c:crosses val="autoZero"/>
        <c:auto val="1"/>
        <c:lblAlgn val="ctr"/>
        <c:lblOffset val="100"/>
        <c:noMultiLvlLbl val="0"/>
      </c:catAx>
      <c:valAx>
        <c:axId val="99890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216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8559-C4F3-4EF6-B946-C80F9058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99ED-E416-404D-8481-A729E81B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8BC9-8923-40B1-9439-CA3A2520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5647-CD7A-4CCB-9E24-F8349BD9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3C19-34E3-474A-B52B-031C8AB0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05A-3457-4617-A1BE-870E246E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D85E-EB71-49FC-9A8F-CF3D92E7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E8FC-2EB1-44B7-9D2A-DB86657B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158E-7EEB-409B-B7C7-C91DE035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9FC1-B025-47BD-B316-D9FDAF00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36E-82FE-48C8-8601-AE518585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6838-C182-4BFE-86A5-088622E2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5DD6A-AEE0-44D8-9781-A6552CF3D7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