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46111"/>
        <c:axId val="90167115"/>
      </c:barChart>
      <c:catAx>
        <c:axId val="15146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67115"/>
        <c:crosses val="autoZero"/>
        <c:auto val="1"/>
        <c:lblAlgn val="ctr"/>
        <c:lblOffset val="100"/>
        <c:noMultiLvlLbl val="0"/>
      </c:catAx>
      <c:valAx>
        <c:axId val="90167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46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EEA-DFC9-405D-B8F8-BE875292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299-EAA2-409F-A662-D5AEEB54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90D-6ECF-40B4-9859-89132C2C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2FF-FC84-4D4B-9EA3-949C9382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9EB-7E8E-44AB-907B-7D97FB5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55B-2EC6-4178-A5F4-5E9EF5CE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10E-0149-470F-847A-EC2D7BA9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E9C-0E25-4760-B5D0-57CA9F1A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5F0-8EA2-482D-A47D-CBABF66B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D59-434C-4332-959E-6A01E92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A9D-4CC1-4097-BC12-D2CABD3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464-85C9-474A-A64D-8A6A0E0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8192C-8400-415F-A7D2-A174DDBC8C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