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051975"/>
        <c:axId val="65468262"/>
      </c:barChart>
      <c:catAx>
        <c:axId val="50051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68262"/>
        <c:crosses val="autoZero"/>
        <c:auto val="1"/>
        <c:lblAlgn val="ctr"/>
        <c:lblOffset val="100"/>
        <c:noMultiLvlLbl val="0"/>
      </c:catAx>
      <c:valAx>
        <c:axId val="65468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51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B30-605A-4CF0-888E-58F85574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D31-0D46-47F5-9019-7CE1FFB5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612-B0B1-4204-9142-69A2BA53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A71-FC6B-4302-9EDE-50717E71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790-46AB-4BC6-9281-2F52C123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999-F752-4E1D-92DF-965B0417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356-385D-4A3F-8857-BA13447F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645-14D2-4998-B698-F5D6071F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C36-ECC9-4AEF-A82D-815DC22C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991-8510-4E2F-898C-8B1DABB9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266-7074-4466-AF9D-4281162E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87A-3A9C-4FCD-AD99-02A58787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E3EF6-8F08-48D2-B697-B4421196F5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