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23925"/>
        <c:axId val="6193975"/>
      </c:barChart>
      <c:catAx>
        <c:axId val="71523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3975"/>
        <c:crosses val="autoZero"/>
        <c:auto val="1"/>
        <c:lblAlgn val="ctr"/>
        <c:lblOffset val="100"/>
        <c:noMultiLvlLbl val="0"/>
      </c:catAx>
      <c:valAx>
        <c:axId val="6193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23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35A-1E9C-4A75-AFD3-7331AA97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20F-15D6-462A-AEE4-61CA755C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C39-E7BD-429D-A7C2-42E313F7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C2F-54FE-4CB6-8DDB-83D341E2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A63-EAC1-4D47-BD82-910DABED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FFE-1356-48FE-A8C3-2D024D84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955-6B1D-4A0A-96EB-0DC1F056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5F5-92A2-4D92-9747-F28EAA5A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722-9ED8-47E8-86F4-1B3071B7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72B-B194-4B2F-BBD1-5BD2F863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474-C502-4BD2-97E9-BE57361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54E-1841-4BC4-A7DF-AD93F26F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03619-D8DB-426D-83DF-C9C2440AE5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