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29858"/>
        <c:axId val="63760838"/>
      </c:barChart>
      <c:catAx>
        <c:axId val="144298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60838"/>
        <c:crosses val="autoZero"/>
        <c:auto val="1"/>
        <c:lblAlgn val="ctr"/>
        <c:lblOffset val="100"/>
        <c:noMultiLvlLbl val="0"/>
      </c:catAx>
      <c:valAx>
        <c:axId val="637608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298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3F9A-844D-4984-BAE2-EB1C0724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0B74-3620-4CAF-AC85-18A86A62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A514-50F6-4C88-8F00-C653A6A8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F9C8-891B-45BE-8CBC-187B74E8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120-D455-4ED4-8AE0-0CACBE7F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2210-1A5B-4D6E-B894-E6077BF2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5E56-29D0-496D-8750-5BFAC2CA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DEFF-43AD-4CC9-A61F-CD67D82A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997B-5318-4BA1-833B-C719FB0C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CFB3-3797-4B35-B6BE-E25A27D7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21C-F91F-4C62-87CA-B33EA29F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4F38-76A2-4AF1-854A-4E4BF8E3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5BC31-2034-4960-B130-7984D8FE8E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