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1980"/>
        <c:axId val="96219916"/>
      </c:barChart>
      <c:catAx>
        <c:axId val="5641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19916"/>
        <c:crosses val="autoZero"/>
        <c:auto val="1"/>
        <c:lblAlgn val="ctr"/>
        <c:lblOffset val="100"/>
        <c:noMultiLvlLbl val="0"/>
      </c:catAx>
      <c:valAx>
        <c:axId val="96219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1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716-D2F0-4020-B484-35C79299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DFC-F3AE-47A2-B278-9EA18FC7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020-6B8D-457B-8C1D-F247E5CC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A4F-1135-46F4-825C-30F3E41A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7C0-3EC8-493A-A38F-D969B1FA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9F4-3AD2-44AD-B5E4-171D5101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919-A924-43B7-A947-FB094466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D48-268B-4E11-9350-DD8F952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CC7-BFC6-45EF-8A84-5672045E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CE2-0439-42ED-8C48-2B74926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789-715E-4A57-9683-2C9D1B3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67A-33FC-4C38-874E-CA6A866A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BE10F-3581-43AA-B71A-01EDF5F424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